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Click to move the slid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9662-82DB-4F0C-9CBA-9875D8C20DA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ssible answer: The imagery of fog is dreary, melancholy, and somewhat threaten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ssible answer: The imagery of Sandburg’s poem is gentler and more positive than Eliot’s: the fog is described as a cat that quietly enters and watches over the ci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5100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4.xml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9880" y="1754280"/>
            <a:ext cx="7770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What Is Imager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magery and Feel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3" action="ppaction://hlinksldjump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Imagery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52" name="">
            <a:hlinkClick r:id="" action="ppaction://hlinkshowjump?jump=endshow"/>
          </p:cNvPr>
          <p:cNvSpPr/>
          <p:nvPr/>
        </p:nvSpPr>
        <p:spPr>
          <a:xfrm>
            <a:off x="6108840" y="5940360"/>
            <a:ext cx="769680" cy="917640"/>
          </a:xfrm>
          <a:custGeom>
            <a:avLst/>
            <a:gdLst>
              <a:gd name="textAreaLeft" fmla="*/ 49680 w 769680"/>
              <a:gd name="textAreaRight" fmla="*/ 720000 w 769680"/>
              <a:gd name="textAreaTop" fmla="*/ 49680 h 917640"/>
              <a:gd name="textAreaBottom" fmla="*/ 867960 h 917640"/>
            </a:gdLst>
            <a:ahLst/>
            <a:rect l="textAreaLeft" t="textAreaTop" r="textAreaRight" b="textAreaBottom"/>
            <a:pathLst>
              <a:path w="21600" h="25750">
                <a:moveTo>
                  <a:pt x="0" y="0"/>
                </a:moveTo>
                <a:lnTo>
                  <a:pt x="21600" y="0"/>
                </a:lnTo>
                <a:lnTo>
                  <a:pt x="21600" y="25750"/>
                </a:lnTo>
                <a:lnTo>
                  <a:pt x="0" y="25750"/>
                </a:lnTo>
                <a:close/>
              </a:path>
              <a:path fill="lightenLess" w="21600" h="257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50">
                <a:moveTo>
                  <a:pt x="21600" y="0"/>
                </a:moveTo>
                <a:lnTo>
                  <a:pt x="21600" y="25750"/>
                </a:lnTo>
                <a:lnTo>
                  <a:pt x="20200" y="24350"/>
                </a:lnTo>
                <a:lnTo>
                  <a:pt x="20200" y="1400"/>
                </a:lnTo>
                <a:close/>
              </a:path>
              <a:path fill="darkenLess" w="21600" h="25750">
                <a:moveTo>
                  <a:pt x="21600" y="25750"/>
                </a:moveTo>
                <a:lnTo>
                  <a:pt x="0" y="25750"/>
                </a:lnTo>
                <a:lnTo>
                  <a:pt x="1400" y="24350"/>
                </a:lnTo>
                <a:lnTo>
                  <a:pt x="20200" y="24350"/>
                </a:lnTo>
                <a:close/>
              </a:path>
              <a:path fill="lighten" w="21600" h="25750">
                <a:moveTo>
                  <a:pt x="0" y="257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>
            <a:hlinkClick r:id="" action="ppaction://hlinkshowjump?jump=endshow"/>
          </p:cNvPr>
          <p:cNvSpPr/>
          <p:nvPr/>
        </p:nvSpPr>
        <p:spPr>
          <a:xfrm>
            <a:off x="7535880" y="5956200"/>
            <a:ext cx="770040" cy="901800"/>
          </a:xfrm>
          <a:custGeom>
            <a:avLst/>
            <a:gdLst>
              <a:gd name="textAreaLeft" fmla="*/ 49680 w 770040"/>
              <a:gd name="textAreaRight" fmla="*/ 720360 w 770040"/>
              <a:gd name="textAreaTop" fmla="*/ 49680 h 901800"/>
              <a:gd name="textAreaBottom" fmla="*/ 852120 h 901800"/>
            </a:gdLst>
            <a:ahLst/>
            <a:rect l="textAreaLeft" t="textAreaTop" r="textAreaRight" b="textAreaBottom"/>
            <a:pathLst>
              <a:path w="21600" h="25294">
                <a:moveTo>
                  <a:pt x="0" y="0"/>
                </a:moveTo>
                <a:lnTo>
                  <a:pt x="21600" y="0"/>
                </a:lnTo>
                <a:lnTo>
                  <a:pt x="21600" y="25294"/>
                </a:lnTo>
                <a:lnTo>
                  <a:pt x="0" y="25294"/>
                </a:lnTo>
                <a:close/>
              </a:path>
              <a:path fill="lightenLess" w="21600" h="252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94">
                <a:moveTo>
                  <a:pt x="21600" y="0"/>
                </a:moveTo>
                <a:lnTo>
                  <a:pt x="21600" y="25294"/>
                </a:lnTo>
                <a:lnTo>
                  <a:pt x="20200" y="23894"/>
                </a:lnTo>
                <a:lnTo>
                  <a:pt x="20200" y="1400"/>
                </a:lnTo>
                <a:close/>
              </a:path>
              <a:path fill="darkenLess" w="21600" h="25294">
                <a:moveTo>
                  <a:pt x="21600" y="25294"/>
                </a:moveTo>
                <a:lnTo>
                  <a:pt x="0" y="25294"/>
                </a:lnTo>
                <a:lnTo>
                  <a:pt x="1400" y="23894"/>
                </a:lnTo>
                <a:lnTo>
                  <a:pt x="20200" y="23894"/>
                </a:lnTo>
                <a:close/>
              </a:path>
              <a:path fill="lighten" w="21600" h="25294">
                <a:moveTo>
                  <a:pt x="0" y="252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371600"/>
            <a:ext cx="22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Feature Men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215040" y="2384280"/>
            <a:ext cx="2386080" cy="3270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42180.JPG"/>
          <p:cNvPicPr/>
          <p:nvPr/>
        </p:nvPicPr>
        <p:blipFill>
          <a:blip r:embed="rId3"/>
          <a:stretch/>
        </p:blipFill>
        <p:spPr>
          <a:xfrm>
            <a:off x="3556080" y="4076640"/>
            <a:ext cx="2396880" cy="1584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42082.JPG"/>
          <p:cNvPicPr/>
          <p:nvPr/>
        </p:nvPicPr>
        <p:blipFill>
          <a:blip r:embed="rId4"/>
          <a:stretch/>
        </p:blipFill>
        <p:spPr>
          <a:xfrm>
            <a:off x="523800" y="4056120"/>
            <a:ext cx="2397240" cy="1584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27042.JPG"/>
          <p:cNvPicPr/>
          <p:nvPr/>
        </p:nvPicPr>
        <p:blipFill>
          <a:blip r:embed="rId5"/>
          <a:stretch/>
        </p:blipFill>
        <p:spPr>
          <a:xfrm>
            <a:off x="3597120" y="2071800"/>
            <a:ext cx="2352960" cy="1555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FSE0036E.JPG"/>
          <p:cNvPicPr/>
          <p:nvPr/>
        </p:nvPicPr>
        <p:blipFill>
          <a:blip r:embed="rId6"/>
          <a:stretch/>
        </p:blipFill>
        <p:spPr>
          <a:xfrm>
            <a:off x="523800" y="2060640"/>
            <a:ext cx="2379600" cy="1589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n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mag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a representation of anything we c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8348760" y="162252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359080" y="2297160"/>
            <a:ext cx="6476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/>
          <p:nvPr/>
        </p:nvSpPr>
        <p:spPr>
          <a:xfrm>
            <a:off x="5060880" y="1981080"/>
            <a:ext cx="997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ou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523800" y="5462640"/>
            <a:ext cx="7794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he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3378240" y="4254480"/>
            <a:ext cx="8208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as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"/>
          <p:cNvSpPr/>
          <p:nvPr/>
        </p:nvSpPr>
        <p:spPr>
          <a:xfrm>
            <a:off x="7613640" y="2055960"/>
            <a:ext cx="9968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me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What Is Imagery?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28480" y="2457360"/>
            <a:ext cx="54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reates images in our min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528480" y="13701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magery is language th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711680" y="164448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28480" y="1914480"/>
            <a:ext cx="54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ppeals to our five sen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256360" y="21589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599080" y="270180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23800" y="3433680"/>
            <a:ext cx="6626160" cy="21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3716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Give me the splendid silent sun, with all his 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beams full-dazzling;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Give me juicy autumnal fruit, ripe and red from the orchard;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Give me a field where the unmow’d grass grows;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Give me an arbor, give me the trellis’d grap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Give Me the Splendid, Silent Sun” by Walt Whitm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" descr="BAG0038D.JPG"/>
          <p:cNvPicPr/>
          <p:nvPr/>
        </p:nvPicPr>
        <p:blipFill>
          <a:blip r:embed="rId5"/>
          <a:stretch/>
        </p:blipFill>
        <p:spPr>
          <a:xfrm>
            <a:off x="7008840" y="3184560"/>
            <a:ext cx="1601640" cy="20019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What Is Imagery?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427800" y="1747800"/>
            <a:ext cx="218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o which senses does this passage appeal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80160" y="3110040"/>
            <a:ext cx="1030320" cy="420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361200" y="485928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391440" y="561960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528480" y="1370160"/>
            <a:ext cx="2286000" cy="768240"/>
          </a:xfrm>
          <a:prstGeom prst="roundRect">
            <a:avLst>
              <a:gd name="adj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528480" y="137016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523800" y="1835280"/>
            <a:ext cx="5737320" cy="260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t must be on charcoal they fatten their fru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 taste in them sometimes the flavour of soo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d after all really they’re ebony skinne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blue’s but a mist from the breath of the win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 tarnish that goes at a touch of the ha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 algn="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Blueberries” by Robert Fr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What Is Imagery?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28480" y="1370160"/>
            <a:ext cx="2286000" cy="768240"/>
          </a:xfrm>
          <a:prstGeom prst="roundRect">
            <a:avLst>
              <a:gd name="adj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523800" y="1835280"/>
            <a:ext cx="5737320" cy="260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t must be on charcoal they fatten their fru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 taste in them sometimes the flavour of soo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d after all really they’re ebony skinne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blue’s but a mist from the breath of the win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 tarnish that goes at a touch of the ha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 algn="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Blueberries” by Robert Fr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13800" y="551484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427800" y="3179880"/>
            <a:ext cx="1878120" cy="3988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ig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4548240" y="2935440"/>
            <a:ext cx="127944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4033800" y="3641760"/>
            <a:ext cx="1919160" cy="0"/>
          </a:xfrm>
          <a:prstGeom prst="line">
            <a:avLst/>
          </a:prstGeom>
          <a:ln w="2844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961920" y="3279600"/>
            <a:ext cx="63972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4043520" y="4005360"/>
            <a:ext cx="169056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660240" y="4003560"/>
            <a:ext cx="2651400" cy="0"/>
          </a:xfrm>
          <a:prstGeom prst="line">
            <a:avLst/>
          </a:prstGeom>
          <a:ln w="2844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961920" y="4349880"/>
            <a:ext cx="1189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3465360" y="470052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871560" y="4697280"/>
            <a:ext cx="914400" cy="0"/>
          </a:xfrm>
          <a:prstGeom prst="line">
            <a:avLst/>
          </a:prstGeom>
          <a:ln w="2844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6427800" y="1747800"/>
            <a:ext cx="218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o which senses does this passage appeal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528480" y="137016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Quick Che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6427800" y="3792600"/>
            <a:ext cx="1878120" cy="3988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as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6427800" y="4433760"/>
            <a:ext cx="187812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ou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8477280" y="349884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8486640" y="406080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What Is Imagery?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5726160" y="6046920"/>
            <a:ext cx="2579760" cy="811080"/>
          </a:xfrm>
          <a:custGeom>
            <a:avLst/>
            <a:gdLst>
              <a:gd name="textAreaLeft" fmla="*/ 52560 w 2579760"/>
              <a:gd name="textAreaRight" fmla="*/ 2527200 w 2579760"/>
              <a:gd name="textAreaTop" fmla="*/ 52560 h 811080"/>
              <a:gd name="textAreaBottom" fmla="*/ 758520 h 811080"/>
            </a:gdLst>
            <a:ahLst/>
            <a:rect l="textAreaLeft" t="textAreaTop" r="textAreaRight" b="textAreaBottom"/>
            <a:pathLst>
              <a:path w="68681" h="21600">
                <a:moveTo>
                  <a:pt x="0" y="0"/>
                </a:moveTo>
                <a:lnTo>
                  <a:pt x="68681" y="0"/>
                </a:lnTo>
                <a:lnTo>
                  <a:pt x="68681" y="21600"/>
                </a:lnTo>
                <a:lnTo>
                  <a:pt x="0" y="21600"/>
                </a:lnTo>
                <a:close/>
              </a:path>
              <a:path fill="lightenLess" w="68681" h="21600">
                <a:moveTo>
                  <a:pt x="0" y="0"/>
                </a:moveTo>
                <a:lnTo>
                  <a:pt x="68681" y="0"/>
                </a:lnTo>
                <a:lnTo>
                  <a:pt x="67281" y="1400"/>
                </a:lnTo>
                <a:lnTo>
                  <a:pt x="1400" y="1400"/>
                </a:lnTo>
                <a:close/>
              </a:path>
              <a:path fill="darken" w="68681" h="21600">
                <a:moveTo>
                  <a:pt x="68681" y="0"/>
                </a:moveTo>
                <a:lnTo>
                  <a:pt x="68681" y="21600"/>
                </a:lnTo>
                <a:lnTo>
                  <a:pt x="67281" y="20200"/>
                </a:lnTo>
                <a:lnTo>
                  <a:pt x="67281" y="1400"/>
                </a:lnTo>
                <a:close/>
              </a:path>
              <a:path fill="darkenLess" w="68681" h="21600">
                <a:moveTo>
                  <a:pt x="68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281" y="20200"/>
                </a:lnTo>
                <a:close/>
              </a:path>
              <a:path fill="lighten" w="68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324480" y="2809800"/>
            <a:ext cx="2286000" cy="3133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28480" y="137016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oets may use imagery to convey a feeling about their subject or to create a certain moo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139160" y="197964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28480" y="22924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feelings do T. S. Eliot’s images of fog evok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523800" y="3543480"/>
            <a:ext cx="6118200" cy="1912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brown waves of fog toss up to 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wisted faces from the bottom of the street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d tear from a passer-by with muddy ski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 aimless smile that hovers in the 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d vanishes along the level of the roof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Morning at the Window” by T. S. Elio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344680" y="287820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Imagery and Feelings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52600" y="3352680"/>
            <a:ext cx="3485880" cy="2543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8480" y="1913040"/>
            <a:ext cx="808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How does the speaker of this poem feel about fog? How is that feeling different from that Eliot’s imagery creat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528480" y="13701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Now read Carl Sandburg’s lines about fo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248600" y="159696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813200" y="287964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384720" y="3786120"/>
            <a:ext cx="5225760" cy="1302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fog comes on little cat feet.  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t sits looking over harbor and city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n silent haunches and then move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rom “Fog” by Carl Sandbu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6391440" y="561960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Imagery and Feelings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3520" y="1370160"/>
            <a:ext cx="826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              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ink of an object or scene, and then choose a particular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ood.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Jot down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magery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—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ensory words—related to your object or scene and mood. Your notes can be raw material for a po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23800" y="1427040"/>
            <a:ext cx="1622520" cy="33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533520" y="3106800"/>
          <a:ext cx="8076960" cy="2766960"/>
        </p:xfrm>
        <a:graphic>
          <a:graphicData uri="http://schemas.openxmlformats.org/drawingml/2006/table">
            <a:tbl>
              <a:tblPr/>
              <a:tblGrid>
                <a:gridCol w="8076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Object or scen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Mood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Sight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Smell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Sound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Tast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Touch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</a:tbl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Practice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84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The End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5746680" y="6046920"/>
            <a:ext cx="1817640" cy="811080"/>
          </a:xfrm>
          <a:custGeom>
            <a:avLst/>
            <a:gdLst>
              <a:gd name="textAreaLeft" fmla="*/ 52560 w 1817640"/>
              <a:gd name="textAreaRight" fmla="*/ 1765080 w 1817640"/>
              <a:gd name="textAreaTop" fmla="*/ 52560 h 811080"/>
              <a:gd name="textAreaBottom" fmla="*/ 758520 h 811080"/>
            </a:gdLst>
            <a:ahLst/>
            <a:rect l="textAreaLeft" t="textAreaTop" r="textAreaRight" b="textAreaBottom"/>
            <a:pathLst>
              <a:path w="48394" h="21600">
                <a:moveTo>
                  <a:pt x="0" y="0"/>
                </a:moveTo>
                <a:lnTo>
                  <a:pt x="48394" y="0"/>
                </a:lnTo>
                <a:lnTo>
                  <a:pt x="48394" y="21600"/>
                </a:lnTo>
                <a:lnTo>
                  <a:pt x="0" y="21600"/>
                </a:lnTo>
                <a:close/>
              </a:path>
              <a:path fill="lightenLess" w="48394" h="21600">
                <a:moveTo>
                  <a:pt x="0" y="0"/>
                </a:moveTo>
                <a:lnTo>
                  <a:pt x="48394" y="0"/>
                </a:lnTo>
                <a:lnTo>
                  <a:pt x="46994" y="1400"/>
                </a:lnTo>
                <a:lnTo>
                  <a:pt x="1400" y="1400"/>
                </a:lnTo>
                <a:close/>
              </a:path>
              <a:path fill="darken" w="48394" h="21600">
                <a:moveTo>
                  <a:pt x="48394" y="0"/>
                </a:moveTo>
                <a:lnTo>
                  <a:pt x="48394" y="21600"/>
                </a:lnTo>
                <a:lnTo>
                  <a:pt x="46994" y="20200"/>
                </a:lnTo>
                <a:lnTo>
                  <a:pt x="46994" y="1400"/>
                </a:lnTo>
                <a:close/>
              </a:path>
              <a:path fill="darkenLess" w="48394" h="21600">
                <a:moveTo>
                  <a:pt x="48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94" y="20200"/>
                </a:lnTo>
                <a:close/>
              </a:path>
              <a:path fill="lighten" w="48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1:09Z</dcterms:created>
  <dc:creator>Amber </dc:creator>
  <dc:description/>
  <dc:language>en-US</dc:language>
  <cp:lastModifiedBy>stevenh</cp:lastModifiedBy>
  <cp:lastPrinted>2004-11-19T20:17:12Z</cp:lastPrinted>
  <dcterms:modified xsi:type="dcterms:W3CDTF">2005-11-22T21:51:58Z</dcterms:modified>
  <cp:revision>1120</cp:revision>
  <dc:subject/>
  <dc:title>Elements of Literature: Character</dc:title>
</cp:coreProperties>
</file>